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S. Nguyễn Minh Qu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/04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ng tâm Công nghệ Hóa họ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145B-D18D-4E44-85AD-16323113C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S. Nguyễn Minh Qu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6426-9E56-45E8-9EA8-108467EA2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Date Placeholder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04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ng Tâm Công nghệ Hóa họ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D79-E41D-4B43-83E4-43185EA6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9A42-AE1B-4C34-B848-81FDFA83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65C-C41C-4916-86A9-3EEB760B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30A-78F5-426A-99BA-E3A029AD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9925-2667-4282-B490-3802DB6B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F586-7C1E-44FF-B6FA-7F32FC0D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6571-7212-40A1-9BFA-FCF8ADBF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37D4-79EE-4727-84CE-C1D37292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8614-B7E9-4C81-BEAC-09F02EE3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BA83-CF56-4A54-BBC1-BBA4C374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482F-48CB-4026-ABD7-5DA56ACF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AC0-AAB7-4C8C-8443-0A7C5176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4D44-766F-45F2-A283-A5B66A34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2D21-0AD2-4F58-A372-23EB02EC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825D-9A5F-4A19-98AF-49583CC5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9EC3-F9F4-45DA-96D9-F01CEFE6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1361-ADAA-49F9-A9B1-69999D89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1FB56-42D3-4F8D-84E8-AE404706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4D2F2-DD7D-4BD2-857B-13DA86DC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FA557-D61D-497E-9123-D2BBC9C0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0CA37-6499-4E95-8672-B4C7DFEE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D54D4-BAA2-438C-BBB2-A5D11BC9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86B-83C5-4F49-BECF-714299DD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CAC7F-2BE8-4AC1-BD88-5269D6AE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0F56A-D916-401D-911B-C455F3D9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97B29-A0BE-4019-B329-AEFA3680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4199F-5777-4D59-9E33-A23C3D28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A7CC0-1BD8-48FF-A159-7DD729A5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64DB7-A3DA-4F9D-B2B7-12F923FF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51635-9A69-4513-AEAE-6F6ACD26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13D-6887-40BF-8DBC-E916B552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4BCB-69CF-4EB3-9011-CECDE813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1B63-9AD6-4398-9C8E-E2AFA224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00C-9818-45BE-B56E-C396DBB5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E3D-85F5-4088-AA6E-C8C0221D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4B4-E9D7-40A3-BC1B-B9C7D5C7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18960"/>
            <a:ext cx="7772400" cy="60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10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9800" y="6427800"/>
            <a:ext cx="226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7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39640" y="6427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7844C65-D36A-499D-99BF-281DF302E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B718-9AD3-4399-9DEE-6171FD97479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B79C-E3F8-429D-9838-DA949DD68F3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7632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F0FA-FCC1-40D2-8B8C-FDD39D58CED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4800" y="1269360"/>
            <a:ext cx="6455520" cy="1346760"/>
          </a:xfrm>
          <a:prstGeom prst="rect">
            <a:avLst/>
          </a:prstGeom>
          <a:solidFill>
            <a:srgbClr val="adffad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ƯƠNG 5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201680" y="3576600"/>
            <a:ext cx="6892920" cy="2017800"/>
          </a:xfrm>
          <a:prstGeom prst="rect">
            <a:avLst/>
          </a:prstGeom>
          <a:solidFill>
            <a:srgbClr val="ffebc2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8640" bIns="36576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ÂN BẰNG PHA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HỆ MỘT CẤU T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6BDA-B913-4EA5-A213-BBC8A69E055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7836120" cy="214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ét cân bằng chất lỏng A với hơi của nó (P) khi có mặt các chất khí (P’) khác gây ra áp suất tổng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 P  +  P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hi áp suất tổng thay đổi, hệ sẽ chuyển sang trạng thái mới. Phương trình sử dụng tính toán sự thay đổi áp suất đ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8"/>
              <p:cNvSpPr txBox="1"/>
              <p:nvPr/>
            </p:nvSpPr>
            <p:spPr>
              <a:xfrm>
                <a:off x="2852640" y="4983120"/>
                <a:ext cx="24577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Rectangle 10"/>
          <p:cNvSpPr/>
          <p:nvPr/>
        </p:nvSpPr>
        <p:spPr>
          <a:xfrm>
            <a:off x="5754600" y="4657680"/>
            <a:ext cx="3065400" cy="18608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 áp suất hơi bão hòa của A ở hai trạng th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,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áp suất tổng hai trạng thá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4. Ảnh hưởng áp suất tổng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9360">
            <a:solidFill>
              <a:srgbClr val="2ecb2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Bài tập về phương trình</a:t>
            </a:r>
            <a:br>
              <a:rPr sz="3600"/>
            </a:b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C-C I và C-C II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0C52-6EFE-49D4-94B1-935A5D6D424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459080" y="2759040"/>
            <a:ext cx="6242040" cy="2230560"/>
          </a:xfrm>
          <a:prstGeom prst="rect">
            <a:avLst/>
          </a:prstGeom>
          <a:solidFill>
            <a:srgbClr val="0aff0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i tập trắc nghiệ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2 – 223 – 224 – 225 – 226 - 231 – 240 – 241 – 242 – 243 – 244 – 245 – 24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F10A-367E-447E-95EC-55F601B3A38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330600" y="3684240"/>
            <a:ext cx="2624040" cy="75708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nướ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660240" y="1747800"/>
            <a:ext cx="5585040" cy="511020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D00A-42D9-4F6E-92A1-D44FE92907F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592360" y="1936440"/>
            <a:ext cx="386712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nướ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19560" y="248760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244520" y="3156120"/>
            <a:ext cx="7394760" cy="351504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Ba miền: AOB – rắn, BOC – lỏng và AOC –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Ba đường cân bằng: OA: cân bằng rắn – hơi: đường thăng hoa, OB: cân bằng rắn-lỏng: đường nóng chảy và OC: cân bằng lỏng – hơi: đường bay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Điểm ba O: cân bằng ba pha rắn – lỏng – hơ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Đường OC’ – đường chậm đông hay đường quá lạnh tức là dưới điều kiện mà vẫn chưa kết tin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Điểm C (37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, 218atm) – điểm tới hạn: nghhĩa là khi T&gt;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ì sự chuyển pha là liên tục không có giới hạn phân chia p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5CE4-5189-4B87-A2B9-29AECC22407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992920" y="3251160"/>
            <a:ext cx="2922480" cy="7574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lưu huỳ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"/>
          <p:cNvPicPr/>
          <p:nvPr/>
        </p:nvPicPr>
        <p:blipFill>
          <a:blip r:embed="rId1"/>
          <a:stretch/>
        </p:blipFill>
        <p:spPr>
          <a:xfrm>
            <a:off x="530280" y="1801800"/>
            <a:ext cx="5118120" cy="50306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4"/>
          <p:cNvSpPr/>
          <p:nvPr/>
        </p:nvSpPr>
        <p:spPr>
          <a:xfrm>
            <a:off x="830160" y="861840"/>
            <a:ext cx="80582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26D1-2CC3-4B3B-9F97-60600D862E1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295000" y="1839600"/>
            <a:ext cx="50626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lưu huỳ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319560" y="248760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455840" y="3309840"/>
            <a:ext cx="6986520" cy="239976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Lưu huỳnh rắn tồn tại hai dạng trực thoi và đơn tà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Các đường nét liền mô tả cân bằng bền giữa các pha còn các đường nét đứt mô tả cân bằng không bề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Vùng bền: 4 vùng (rắn 1, rắn 2, lỏng và khí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Điểm A, B, và C: là điểm ba bền; O là điểm ba không bền. K là điểm tới hạ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20CA-A217-4DF2-AF38-648CA18D91B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56880" y="1839600"/>
            <a:ext cx="56530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cac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Dra-kcuong1"/>
          <p:cNvPicPr/>
          <p:nvPr/>
        </p:nvPicPr>
        <p:blipFill>
          <a:blip r:embed="rId1"/>
          <a:stretch/>
        </p:blipFill>
        <p:spPr>
          <a:xfrm>
            <a:off x="1074600" y="2460600"/>
            <a:ext cx="7705800" cy="416232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4"/>
          <p:cNvSpPr/>
          <p:nvPr/>
        </p:nvSpPr>
        <p:spPr>
          <a:xfrm>
            <a:off x="898560" y="861840"/>
            <a:ext cx="8056440" cy="7225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266A-09D3-4235-9B77-F817B3F18CE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953720" y="1881000"/>
            <a:ext cx="5653080" cy="420840"/>
          </a:xfrm>
          <a:prstGeom prst="rect">
            <a:avLst/>
          </a:prstGeom>
          <a:solidFill>
            <a:srgbClr val="e085ff"/>
          </a:solidFill>
          <a:ln w="9360">
            <a:solidFill>
              <a:srgbClr val="000000"/>
            </a:solidFill>
            <a:miter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ản đồ pha của cac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305160" y="2614680"/>
            <a:ext cx="210024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hân t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287360" y="3578400"/>
            <a:ext cx="7480440" cy="2234520"/>
          </a:xfrm>
          <a:prstGeom prst="rect">
            <a:avLst/>
          </a:pr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ốn miền: kim cương, Grafit, lỏng và kh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Đường cong AB là đường cân bằng kim cương – Grafit, như vậy về mặt nhiệt động Grafit bền hơn kim cương. Do đó, để chuyển Grafit thành kim cương ở 298K cần P = 2,2.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. Hoặc 1 điểm nào đó trên giản đồ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817560" y="901800"/>
            <a:ext cx="805824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6EE0-060E-4980-8D13-43219CFCA3B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1824120" y="2747880"/>
            <a:ext cx="5583240" cy="1718640"/>
          </a:xfrm>
          <a:prstGeom prst="rect">
            <a:avLst/>
          </a:prstGeom>
          <a:solidFill>
            <a:srgbClr val="0aff0a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i tập trắc nghiệ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6 – 247 – 249 – 254 – 256 – 258 – 25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817560" y="901800"/>
            <a:ext cx="805824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5. Một số giản độ pha hệ 1cấu tử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99AB-E522-4A12-BD21-94822CA9F0E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2698920"/>
            <a:ext cx="7732800" cy="3271680"/>
          </a:xfrm>
          <a:prstGeom prst="rect">
            <a:avLst/>
          </a:prstGeom>
          <a:solidFill>
            <a:srgbClr val="0aff0a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Khái quát về cân bằng pha môt cấu t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2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Ảnh hưởng áp suất đến nhiệt độ chuyển p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Ảnh hưởng của nhiệt độ đến áp suất hơi bão hò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4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Ảnh hưởng của áp suất tổng đến áp suất hơi bão hò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5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ột số biểu đồ trạng thái hệ 1 cấu t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44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6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ài tậ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2465280" y="1204920"/>
            <a:ext cx="3746520" cy="72216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fff18e"/>
              </a:gs>
              <a:gs pos="100000">
                <a:srgbClr val="fffad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ội d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A1EE-16C6-46B1-BE6D-BE779B7A7BC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611360" y="2990880"/>
            <a:ext cx="6586560" cy="32256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ệ 1 cấu tử gồm một chất nguyên chấ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ân bằng pha hệ một cấu tử là cân bằng giữa các trạng thái tập hợp của chất đ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ự thay đổi pha bao giờ cũng kèm theo sự thay đổi tính chất của h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ạng thái của hệ được xác định bởi ba thông số P, T,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790560" y="1023840"/>
            <a:ext cx="8058240" cy="7207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1. Khái quát CB Pha hệ 1 cấu t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B4C8-BE4F-47FA-8AFA-9815F61FF03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12960" y="2416320"/>
            <a:ext cx="41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Áp dụng quy tắc pha Gibb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2907000" y="3051000"/>
            <a:ext cx="3888720" cy="4597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k - f + 2 = 1 – f + 2 = 3 -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969840" y="3906720"/>
            <a:ext cx="7837560" cy="267264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1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1 = 2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ả hai thông số bên ngoài thay đổi mà hệ vẫn tồn tại 1 pha trong giới hạn cho phé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2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2 = 1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hỉ 1 trong 2 thông số bên ngoài thay đổi mà hệ vẫn tồn tại trạng thái cân bằng pha trong giới hạn cho phé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ệ gồm 3 pha nằm cân bằ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 = 3 – 3 = 0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ghĩa là chỉ có thể tồn tại cân bằng 3 pha khi cả hai thông số bền ngoài không thay đổ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790560" y="1023840"/>
            <a:ext cx="8058240" cy="72072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1. Khái quát CB Pha hệ 1 cấu t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6304-DDD7-4F2D-9D40-7E5C761DBD9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966960" y="2419200"/>
            <a:ext cx="7554600" cy="13500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Đối với hệ 1 cấu tử, quá trình chuyển pha phụ thuộc vào nhiệt độ và áp suấ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ối quan hệ này được thiết lập bởi phương trình Clapeyron-Clausi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2649600" y="4608360"/>
                <a:ext cx="167796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Rectangle 10"/>
          <p:cNvSpPr/>
          <p:nvPr/>
        </p:nvSpPr>
        <p:spPr>
          <a:xfrm>
            <a:off x="4656240" y="4278240"/>
            <a:ext cx="3065400" cy="132624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:  Nhiệt độ tuyệt đố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: biến thiên thể t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hiệt chuyển p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782360" y="6161040"/>
            <a:ext cx="723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ệ thức này gọi là phương trình Clapeyron-Clausius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2"/>
          <p:cNvSpPr/>
          <p:nvPr/>
        </p:nvSpPr>
        <p:spPr>
          <a:xfrm>
            <a:off x="912960" y="6203880"/>
            <a:ext cx="788760" cy="422280"/>
          </a:xfrm>
          <a:prstGeom prst="rightArrow">
            <a:avLst>
              <a:gd name="adj1" fmla="val 50000"/>
              <a:gd name="adj2" fmla="val 46697"/>
            </a:avLst>
          </a:prstGeom>
          <a:solidFill>
            <a:srgbClr val="ff00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0CFF-33A7-4ED3-9459-1B2B6144AF4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068480" y="2828880"/>
            <a:ext cx="7356240" cy="97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ếu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tính ml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ính cal (1cal = 41,3ml.atm) thì phương trình Clapeyron – Clausius được viết như sa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0"/>
              <p:cNvSpPr txBox="1"/>
              <p:nvPr/>
            </p:nvSpPr>
            <p:spPr>
              <a:xfrm>
                <a:off x="3327480" y="4433760"/>
                <a:ext cx="18795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t xml:space="preserve">,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E945-C4BD-44C0-804D-9C730F32B2D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336680" y="2728800"/>
            <a:ext cx="6708600" cy="97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ối vớ hệ ngưng tụ (RẮN – LỎNG) các đại lượ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ít chịu ảnh hưởng bởi áp suất do đ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782720" y="4334040"/>
                <a:ext cx="187632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AutoShape 7"/>
          <p:cNvSpPr/>
          <p:nvPr/>
        </p:nvSpPr>
        <p:spPr>
          <a:xfrm>
            <a:off x="4375080" y="4557600"/>
            <a:ext cx="858960" cy="563760"/>
          </a:xfrm>
          <a:prstGeom prst="rightArrow">
            <a:avLst>
              <a:gd name="adj1" fmla="val 50000"/>
              <a:gd name="adj2" fmla="val 38091"/>
            </a:avLst>
          </a:prstGeom>
          <a:solidFill>
            <a:srgbClr val="ff66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10"/>
              <p:cNvSpPr txBox="1"/>
              <p:nvPr/>
            </p:nvSpPr>
            <p:spPr>
              <a:xfrm>
                <a:off x="5875200" y="4334040"/>
                <a:ext cx="19098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T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AutoShape 4"/>
          <p:cNvSpPr/>
          <p:nvPr/>
        </p:nvSpPr>
        <p:spPr>
          <a:xfrm>
            <a:off x="790560" y="806400"/>
            <a:ext cx="8231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2. Ảnh hưởng áp suất đến nhiệt độ chuyển ph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6949-E5EE-45CA-9952-07BB6761A30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7075440" y="4473720"/>
            <a:ext cx="2054160" cy="219528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23960" y="2448000"/>
            <a:ext cx="8305920" cy="17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ô hình xảy 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ỏng              hơi  +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h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ắn               hơi  +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Áp dụng phương trình Claypeyron – Clausius 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4397400" y="4578480"/>
                <a:ext cx="13701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Δ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Line 7"/>
          <p:cNvSpPr/>
          <p:nvPr/>
        </p:nvSpPr>
        <p:spPr>
          <a:xfrm>
            <a:off x="3502080" y="3139920"/>
            <a:ext cx="59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8"/>
          <p:cNvSpPr/>
          <p:nvPr/>
        </p:nvSpPr>
        <p:spPr>
          <a:xfrm flipH="1">
            <a:off x="3489120" y="3251160"/>
            <a:ext cx="61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3517920" y="3470400"/>
            <a:ext cx="59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"/>
          <p:cNvSpPr/>
          <p:nvPr/>
        </p:nvSpPr>
        <p:spPr>
          <a:xfrm flipH="1">
            <a:off x="3504960" y="3581280"/>
            <a:ext cx="61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055520" y="5688000"/>
            <a:ext cx="5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14"/>
              <p:cNvSpPr txBox="1"/>
              <p:nvPr/>
            </p:nvSpPr>
            <p:spPr>
              <a:xfrm>
                <a:off x="4352760" y="5562720"/>
                <a:ext cx="17132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V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Text Box 15"/>
          <p:cNvSpPr/>
          <p:nvPr/>
        </p:nvSpPr>
        <p:spPr>
          <a:xfrm>
            <a:off x="1832400" y="5708520"/>
            <a:ext cx="2480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ơ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ỏng(rắ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6"/>
          <p:cNvSpPr/>
          <p:nvPr/>
        </p:nvSpPr>
        <p:spPr>
          <a:xfrm>
            <a:off x="6019920" y="4219560"/>
            <a:ext cx="828720" cy="20671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à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9"/>
              <p:cNvSpPr txBox="1"/>
              <p:nvPr/>
            </p:nvSpPr>
            <p:spPr>
              <a:xfrm>
                <a:off x="7086600" y="4876920"/>
                <a:ext cx="15908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0"/>
              <p:cNvSpPr txBox="1"/>
              <p:nvPr/>
            </p:nvSpPr>
            <p:spPr>
              <a:xfrm>
                <a:off x="7074000" y="5842080"/>
                <a:ext cx="205560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7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Text Box 21"/>
          <p:cNvSpPr/>
          <p:nvPr/>
        </p:nvSpPr>
        <p:spPr>
          <a:xfrm>
            <a:off x="6392160" y="6095880"/>
            <a:ext cx="54936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6133320" y="2637000"/>
            <a:ext cx="29422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ypeyron – Clausius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4"/>
          <p:cNvSpPr/>
          <p:nvPr/>
        </p:nvSpPr>
        <p:spPr>
          <a:xfrm>
            <a:off x="7272360" y="3220920"/>
            <a:ext cx="1393920" cy="898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3. Ảnh hưởng nhiệt độ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49A6-92B2-4EDD-AD88-1BA38156ED7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091880" y="2603520"/>
            <a:ext cx="7475400" cy="50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y đổi hẹp trong khoảng nhiệt độ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3"/>
              <p:cNvSpPr txBox="1"/>
              <p:nvPr/>
            </p:nvSpPr>
            <p:spPr>
              <a:xfrm>
                <a:off x="4014720" y="3564000"/>
                <a:ext cx="14907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AutoShape 11"/>
          <p:cNvSpPr/>
          <p:nvPr/>
        </p:nvSpPr>
        <p:spPr>
          <a:xfrm>
            <a:off x="3911760" y="4683240"/>
            <a:ext cx="1519200" cy="731880"/>
          </a:xfrm>
          <a:prstGeom prst="down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14"/>
          <p:cNvGrpSpPr/>
          <p:nvPr/>
        </p:nvGrpSpPr>
        <p:grpSpPr>
          <a:xfrm>
            <a:off x="3311640" y="5543640"/>
            <a:ext cx="2855880" cy="1054080"/>
            <a:chOff x="3311640" y="5543640"/>
            <a:chExt cx="2855880" cy="1054080"/>
          </a:xfrm>
        </p:grpSpPr>
        <mc:AlternateContent>
          <mc:Choice xmlns:a14="http://schemas.microsoft.com/office/drawing/2010/main" Requires="a14">
            <p:sp>
              <p:nvSpPr>
                <p:cNvPr id="197" name="Object 9"/>
                <p:cNvSpPr txBox="1"/>
                <p:nvPr/>
              </p:nvSpPr>
              <p:spPr>
                <a:xfrm>
                  <a:off x="3589200" y="5653080"/>
                  <a:ext cx="241416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Rectangle 12"/>
            <p:cNvSpPr/>
            <p:nvPr/>
          </p:nvSpPr>
          <p:spPr>
            <a:xfrm>
              <a:off x="3311640" y="5543640"/>
              <a:ext cx="2855880" cy="1054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Rectangle 13"/>
          <p:cNvSpPr/>
          <p:nvPr/>
        </p:nvSpPr>
        <p:spPr>
          <a:xfrm>
            <a:off x="3755880" y="3446640"/>
            <a:ext cx="1785960" cy="9428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777960" y="806400"/>
            <a:ext cx="8339040" cy="1103400"/>
          </a:xfrm>
          <a:prstGeom prst="roundRect">
            <a:avLst>
              <a:gd name="adj" fmla="val 21667"/>
            </a:avLst>
          </a:prstGeom>
          <a:gradFill rotWithShape="0">
            <a:gsLst>
              <a:gs pos="0">
                <a:srgbClr val="95ff95"/>
              </a:gs>
              <a:gs pos="100000">
                <a:srgbClr val="e1ffe1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3. Ảnh hưởng nhiệt độ đến áp suất hơi bão hò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11:53:40Z</dcterms:created>
  <dc:creator>Quang S.O.S</dc:creator>
  <dc:description>Hoá lý 1</dc:description>
  <dc:language>en-US</dc:language>
  <cp:lastModifiedBy>Quang S.O.S</cp:lastModifiedBy>
  <dcterms:modified xsi:type="dcterms:W3CDTF">2011-05-03T06:52:54Z</dcterms:modified>
  <cp:revision>344</cp:revision>
  <dc:subject/>
  <dc:title>Chương 5. Cân bằng pha hệ 1 cấu tử </dc:title>
</cp:coreProperties>
</file>